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5.png" ContentType="image/png"/>
  <Override PartName="/ppt/media/image11.png" ContentType="image/png"/>
  <Override PartName="/ppt/media/image9.png" ContentType="image/png"/>
  <Override PartName="/ppt/media/image6.gif" ContentType="image/gif"/>
  <Override PartName="/ppt/media/image13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5.jpeg" ContentType="image/jpeg"/>
  <Override PartName="/ppt/media/image4.jpeg" ContentType="image/jpeg"/>
  <Override PartName="/ppt/media/image2.jpeg" ContentType="image/jpeg"/>
  <Override PartName="/ppt/media/image10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5.gif" ContentType="image/gif"/>
  <Override PartName="/ppt/media/image1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C993-6F76-4307-9D0C-C091B61E8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BD26-3013-49A8-ACEC-7226A246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F534-A789-4BBB-AD27-8047C43D8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3CF9-E8E4-422D-98E2-6C722B7B1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3CFD-CFB9-428A-86CC-406F3D6E9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B23D-78F8-43CD-BCDB-4913D0C2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DC11-C642-4AC3-A99B-067CCFB6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00D7-A01E-4B3A-858E-34B814AE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CD9C-9D39-44F7-AC79-6C0270A3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96B1-885F-4699-A3B0-3DC57F49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9889-59AD-418F-B286-4B1C25B8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21D2-E698-4844-8BFA-764060FA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7533-0A47-4C67-9485-EF3DB9EE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31DB-C179-44A5-B44B-74C9BAB9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9BB6D-CE52-4E04-A01B-CF1BF8C3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F33B-0F8C-4CCF-B269-A374E93B6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4A96-5121-49FB-A715-BB36EC259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BE21C-1F91-46CA-A8E8-C2C58B319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BAD6E-5C40-468D-94C2-0F233C6C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75F6B-109A-437A-AA1C-A99D2692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69B10-B291-4B9D-A81F-D2EE104B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CDE16-3C74-4FF9-8782-5B333D61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3FA5-0309-4B8B-8804-157D0271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697EB-AE59-4092-B1AA-E50A71A8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821F3-B173-47CA-A8EE-537C4CA2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D7532-8FD8-45B9-82D8-B66521D0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8DDFF-6CFA-48DB-A19F-3784824C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0C84A-74C5-4AA5-9E18-5782C073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A367E-3068-412B-816B-B53611FD2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EB874-BBE2-4A57-90AD-5C277BD4B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4880-0FD3-4517-9ADE-1445E571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2449-7A49-4FD6-A0E3-00C0F892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0978-0350-425A-8DD7-1A9FA3CF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3F58-93A1-456C-9E99-B9180D0D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422C-FFA7-42DD-9392-518EE6F8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5B84-F274-4F81-88C5-F3895516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B7D1-7612-45B4-ADCC-34C4C65E130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1A3D-22B5-4CF8-A3F6-8040BBFD1DF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F0DE-00C8-4D75-9274-B14CDE1E0DF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../../../&#30446;&#24405;.ppt" TargetMode="External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2849400" y="1440000"/>
            <a:ext cx="587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17 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走一步，再走一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pic_31669"/>
          <p:cNvPicPr/>
          <p:nvPr/>
        </p:nvPicPr>
        <p:blipFill>
          <a:blip r:embed="rId1">
            <a:lum contrast="18000"/>
          </a:blip>
          <a:srcRect l="0" t="0" r="-100" b="-68"/>
          <a:stretch/>
        </p:blipFill>
        <p:spPr>
          <a:xfrm>
            <a:off x="3867120" y="2733840"/>
            <a:ext cx="4492800" cy="276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79320" y="459360"/>
            <a:ext cx="7707600" cy="73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理清文章的思路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3" descr="taoshu"/>
          <p:cNvPicPr/>
          <p:nvPr/>
        </p:nvPicPr>
        <p:blipFill>
          <a:blip r:embed="rId1"/>
          <a:stretch/>
        </p:blipFill>
        <p:spPr>
          <a:xfrm>
            <a:off x="5605560" y="669960"/>
            <a:ext cx="3365280" cy="84132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4"/>
          <p:cNvSpPr/>
          <p:nvPr/>
        </p:nvSpPr>
        <p:spPr>
          <a:xfrm>
            <a:off x="406440" y="1467000"/>
            <a:ext cx="84042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第一部分（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3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：冒险。写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跟着小伙伴们爬上了半山腰的一条小山道，上不得，又不敢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第二部分（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4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2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：脱险。写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恐惧地伏在岩石上，后来在父亲的鼓励之下，一小步一小步地走下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第三部分（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3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：感悟。写作者由小时候爬山的事感悟出的人生道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47360" y="1400040"/>
            <a:ext cx="7737480" cy="7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4.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我们从中悟出怎样的生活哲理？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23600" y="1779480"/>
            <a:ext cx="7723080" cy="28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在人生道路上，不管面对怎样的艰难险阻，只要把大困难分解为小困难，一个一个地认真解决小困难，终将战胜巨大的困难，赢得最后的胜利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4" descr="2004121511115859383"/>
          <p:cNvPicPr/>
          <p:nvPr/>
        </p:nvPicPr>
        <p:blipFill>
          <a:blip r:embed="rId1"/>
          <a:stretch/>
        </p:blipFill>
        <p:spPr>
          <a:xfrm>
            <a:off x="752400" y="4968720"/>
            <a:ext cx="7458120" cy="1216080"/>
          </a:xfrm>
          <a:prstGeom prst="rect">
            <a:avLst/>
          </a:prstGeom>
          <a:ln w="0">
            <a:noFill/>
          </a:ln>
        </p:spPr>
      </p:pic>
      <p:grpSp>
        <p:nvGrpSpPr>
          <p:cNvPr id="180" name="Group 5"/>
          <p:cNvGrpSpPr/>
          <p:nvPr/>
        </p:nvGrpSpPr>
        <p:grpSpPr>
          <a:xfrm>
            <a:off x="7677000" y="1093680"/>
            <a:ext cx="509760" cy="582480"/>
            <a:chOff x="7677000" y="1093680"/>
            <a:chExt cx="509760" cy="582480"/>
          </a:xfrm>
        </p:grpSpPr>
        <p:sp>
          <p:nvSpPr>
            <p:cNvPr id="181" name="未知"/>
            <p:cNvSpPr/>
            <p:nvPr/>
          </p:nvSpPr>
          <p:spPr>
            <a:xfrm>
              <a:off x="7834320" y="1093680"/>
              <a:ext cx="199800" cy="290520"/>
            </a:xfrm>
            <a:prstGeom prst="pi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7677000" y="1216080"/>
              <a:ext cx="263520" cy="182520"/>
            </a:xfrm>
            <a:prstGeom prst="pi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7677000" y="1368360"/>
              <a:ext cx="263520" cy="185760"/>
            </a:xfrm>
            <a:prstGeom prst="pi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7831080" y="1384200"/>
              <a:ext cx="199800" cy="291960"/>
            </a:xfrm>
            <a:prstGeom prst="pi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7923240" y="1368360"/>
              <a:ext cx="263520" cy="182520"/>
            </a:xfrm>
            <a:prstGeom prst="pi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7923240" y="1214280"/>
              <a:ext cx="263520" cy="184320"/>
            </a:xfrm>
            <a:prstGeom prst="pi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7845120" y="1309680"/>
              <a:ext cx="176400" cy="150840"/>
            </a:xfrm>
            <a:prstGeom prst="pie">
              <a:avLst/>
            </a:prstGeom>
            <a:solidFill>
              <a:srgbClr val="bc7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Oval 2"/>
          <p:cNvSpPr/>
          <p:nvPr/>
        </p:nvSpPr>
        <p:spPr>
          <a:xfrm>
            <a:off x="666720" y="2438280"/>
            <a:ext cx="1967040" cy="1290600"/>
          </a:xfrm>
          <a:prstGeom prst="ellipse">
            <a:avLst/>
          </a:prstGeom>
          <a:gradFill rotWithShape="0">
            <a:gsLst>
              <a:gs pos="0">
                <a:srgbClr val="333300"/>
              </a:gs>
              <a:gs pos="50000">
                <a:srgbClr val="ffffff"/>
              </a:gs>
              <a:gs pos="100000">
                <a:srgbClr val="3333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ahoma"/>
                <a:ea typeface="华文新魏"/>
              </a:rPr>
              <a:t>遇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3"/>
          <p:cNvSpPr/>
          <p:nvPr/>
        </p:nvSpPr>
        <p:spPr>
          <a:xfrm>
            <a:off x="6566040" y="2438280"/>
            <a:ext cx="1874520" cy="129564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50000">
                <a:srgbClr val="ff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ahoma"/>
                <a:ea typeface="华文新魏"/>
              </a:rPr>
              <a:t>脱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4"/>
          <p:cNvSpPr/>
          <p:nvPr/>
        </p:nvSpPr>
        <p:spPr>
          <a:xfrm>
            <a:off x="2647800" y="289548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solidFill>
            <a:srgbClr val="df9d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3094200" y="2430360"/>
            <a:ext cx="305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着眼于那最初的一小步，走了这一步，再走下一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6"/>
          <p:cNvSpPr/>
          <p:nvPr/>
        </p:nvSpPr>
        <p:spPr>
          <a:xfrm>
            <a:off x="6100920" y="292428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solidFill>
            <a:srgbClr val="df9d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7"/>
          <p:cNvSpPr/>
          <p:nvPr/>
        </p:nvSpPr>
        <p:spPr>
          <a:xfrm>
            <a:off x="676440" y="4367160"/>
            <a:ext cx="1439640" cy="1052640"/>
          </a:xfrm>
          <a:prstGeom prst="ellipse">
            <a:avLst/>
          </a:prstGeom>
          <a:gradFill rotWithShape="0">
            <a:gsLst>
              <a:gs pos="0">
                <a:srgbClr val="50fa78"/>
              </a:gs>
              <a:gs pos="50000">
                <a:srgbClr val="ffffff"/>
              </a:gs>
              <a:gs pos="100000">
                <a:srgbClr val="50fa78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华文彩云"/>
              </a:rPr>
              <a:t>感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2637000" y="4395960"/>
            <a:ext cx="577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无论怎样的危险和困难，只要把它分解开来，分解为一小步一小步，困难就不大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9"/>
          <p:cNvSpPr/>
          <p:nvPr/>
        </p:nvSpPr>
        <p:spPr>
          <a:xfrm>
            <a:off x="2119320" y="479592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solidFill>
            <a:srgbClr val="df9d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0"/>
          <p:cNvSpPr/>
          <p:nvPr/>
        </p:nvSpPr>
        <p:spPr>
          <a:xfrm>
            <a:off x="2467080" y="1922400"/>
            <a:ext cx="4824360" cy="432000"/>
          </a:xfrm>
          <a:custGeom>
            <a:avLst/>
            <a:gdLst>
              <a:gd name="textAreaLeft" fmla="*/ 844200 w 4824360"/>
              <a:gd name="textAreaRight" fmla="*/ 3497760 w 482436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394578"/>
                <a:lnTo>
                  <a:pt x="21014" y="13262"/>
                </a:lnTo>
                <a:lnTo>
                  <a:pt x="17280" y="21600"/>
                </a:lnTo>
                <a:lnTo>
                  <a:pt x="12374" y="13262"/>
                </a:lnTo>
                <a:lnTo>
                  <a:pt x="14534" y="13262"/>
                </a:lnTo>
                <a:arcTo wR="7560" hR="21600" stAng="-3005422" swAng="-203714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1" descr="469"/>
          <p:cNvPicPr/>
          <p:nvPr/>
        </p:nvPicPr>
        <p:blipFill>
          <a:blip r:embed="rId1"/>
          <a:stretch/>
        </p:blipFill>
        <p:spPr>
          <a:xfrm>
            <a:off x="7169040" y="811080"/>
            <a:ext cx="1273320" cy="782640"/>
          </a:xfrm>
          <a:prstGeom prst="rect">
            <a:avLst/>
          </a:prstGeom>
          <a:ln w="0">
            <a:noFill/>
          </a:ln>
        </p:spPr>
      </p:pic>
      <p:sp>
        <p:nvSpPr>
          <p:cNvPr id="198" name="WordArt 12"/>
          <p:cNvSpPr txBox="1"/>
          <p:nvPr/>
        </p:nvSpPr>
        <p:spPr>
          <a:xfrm>
            <a:off x="2057400" y="719280"/>
            <a:ext cx="49528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8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8000">
                    <a:alpha val="94000"/>
                  </a:srgbClr>
                </a:solidFill>
                <a:latin typeface="华文新魏"/>
              </a:rPr>
              <a:t>走一步，再走一步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008000">
                  <a:alpha val="94000"/>
                </a:srgbClr>
              </a:solidFill>
              <a:latin typeface="华文新魏"/>
              <a:ea typeface="华文新魏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541440" y="1236600"/>
            <a:ext cx="8231040" cy="42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宋体"/>
                <a:ea typeface="幼圆"/>
              </a:rPr>
              <a:t>1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  <a:ea typeface="幼圆"/>
              </a:rPr>
              <a:t>.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  <a:ea typeface="幼圆"/>
              </a:rPr>
              <a:t>分别找出详写、略写的句子；写攀爬悬崖过程中哪些详写？哪些略写？</a:t>
            </a:r>
            <a:r>
              <a:rPr b="0" lang="zh-CN" sz="2600" spc="-1" strike="noStrike">
                <a:solidFill>
                  <a:srgbClr val="ff3300"/>
                </a:solidFill>
                <a:latin typeface="宋体"/>
                <a:ea typeface="幼圆"/>
              </a:rPr>
              <a:t> </a:t>
            </a:r>
            <a:br>
              <a:rPr sz="2600"/>
            </a:br>
            <a:r>
              <a:rPr b="0" lang="zh-CN" sz="2600" spc="-1" strike="noStrike">
                <a:solidFill>
                  <a:srgbClr val="0000ff"/>
                </a:solidFill>
                <a:latin typeface="宋体"/>
                <a:ea typeface="幼圆"/>
              </a:rPr>
              <a:t>2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  <a:ea typeface="幼圆"/>
              </a:rPr>
              <a:t>.</a:t>
            </a:r>
            <a:r>
              <a:rPr b="0" lang="zh-CN" sz="2600" spc="-1" strike="noStrike">
                <a:solidFill>
                  <a:srgbClr val="0000ff"/>
                </a:solidFill>
                <a:latin typeface="Tempus Sans ITC"/>
                <a:ea typeface="幼圆"/>
              </a:rPr>
              <a:t>找出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  <a:ea typeface="幼圆"/>
              </a:rPr>
              <a:t>“</a:t>
            </a:r>
            <a:r>
              <a:rPr b="0" lang="zh-CN" sz="2600" spc="-1" strike="noStrike">
                <a:solidFill>
                  <a:srgbClr val="0000ff"/>
                </a:solidFill>
                <a:latin typeface="Tempus Sans ITC"/>
                <a:ea typeface="幼圆"/>
              </a:rPr>
              <a:t>我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  <a:ea typeface="幼圆"/>
              </a:rPr>
              <a:t>”</a:t>
            </a:r>
            <a:r>
              <a:rPr b="0" lang="zh-CN" sz="2600" spc="-1" strike="noStrike">
                <a:solidFill>
                  <a:srgbClr val="0000ff"/>
                </a:solidFill>
                <a:latin typeface="Tempus Sans ITC"/>
                <a:ea typeface="幼圆"/>
              </a:rPr>
              <a:t>爬下悬崖的具体动作以及刻画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  <a:ea typeface="幼圆"/>
              </a:rPr>
              <a:t>“</a:t>
            </a:r>
            <a:r>
              <a:rPr b="0" lang="zh-CN" sz="2600" spc="-1" strike="noStrike">
                <a:solidFill>
                  <a:srgbClr val="0000ff"/>
                </a:solidFill>
                <a:latin typeface="Tempus Sans ITC"/>
                <a:ea typeface="幼圆"/>
              </a:rPr>
              <a:t>我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  <a:ea typeface="幼圆"/>
              </a:rPr>
              <a:t>”</a:t>
            </a:r>
            <a:r>
              <a:rPr b="0" lang="zh-CN" sz="2600" spc="-1" strike="noStrike">
                <a:solidFill>
                  <a:srgbClr val="0000ff"/>
                </a:solidFill>
                <a:latin typeface="Tempus Sans ITC"/>
                <a:ea typeface="幼圆"/>
              </a:rPr>
              <a:t>的心理活动的语句，揣摩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  <a:ea typeface="幼圆"/>
              </a:rPr>
              <a:t>“</a:t>
            </a:r>
            <a:r>
              <a:rPr b="0" lang="zh-CN" sz="2600" spc="-1" strike="noStrike">
                <a:solidFill>
                  <a:srgbClr val="0000ff"/>
                </a:solidFill>
                <a:latin typeface="Tempus Sans ITC"/>
                <a:ea typeface="幼圆"/>
              </a:rPr>
              <a:t>我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  <a:ea typeface="幼圆"/>
              </a:rPr>
              <a:t>”</a:t>
            </a:r>
            <a:r>
              <a:rPr b="0" lang="zh-CN" sz="2600" spc="-1" strike="noStrike">
                <a:solidFill>
                  <a:srgbClr val="0000ff"/>
                </a:solidFill>
                <a:latin typeface="Tempus Sans ITC"/>
                <a:ea typeface="幼圆"/>
              </a:rPr>
              <a:t>的心理变化。</a:t>
            </a:r>
            <a:br>
              <a:rPr sz="2600"/>
            </a:br>
            <a:r>
              <a:rPr b="0" lang="en-US" sz="2600" spc="-1" strike="noStrike">
                <a:solidFill>
                  <a:srgbClr val="0000ff"/>
                </a:solidFill>
                <a:latin typeface="宋体"/>
                <a:ea typeface="幼圆"/>
              </a:rPr>
              <a:t>3.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  <a:ea typeface="幼圆"/>
              </a:rPr>
              <a:t>分析“我”爬下悬崖时心理经历过几个变化过程。</a:t>
            </a:r>
            <a:br>
              <a:rPr sz="2600"/>
            </a:br>
            <a:r>
              <a:rPr b="0" lang="zh-CN" sz="2600" spc="-1" strike="noStrike">
                <a:solidFill>
                  <a:srgbClr val="0000ff"/>
                </a:solidFill>
                <a:latin typeface="宋体"/>
                <a:ea typeface="幼圆"/>
              </a:rPr>
              <a:t>4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  <a:ea typeface="幼圆"/>
              </a:rPr>
              <a:t>.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  <a:ea typeface="幼圆"/>
              </a:rPr>
              <a:t>文中写岩石架并不是很高，父亲完全可以扛梯子把孩子抱下来，可他为什么没有上去救孩子呢？</a:t>
            </a:r>
            <a:br>
              <a:rPr sz="2600"/>
            </a:br>
            <a:r>
              <a:rPr b="0" lang="en-US" sz="2600" spc="-1" strike="noStrike">
                <a:solidFill>
                  <a:srgbClr val="0000ff"/>
                </a:solidFill>
                <a:latin typeface="宋体"/>
                <a:ea typeface="幼圆"/>
              </a:rPr>
              <a:t>5.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  <a:ea typeface="幼圆"/>
              </a:rPr>
              <a:t>从课文内容看，“走一步，再走一步”是什么意思？</a:t>
            </a:r>
            <a:br>
              <a:rPr sz="2600"/>
            </a:br>
            <a:r>
              <a:rPr b="0" lang="zh-CN" sz="2600" spc="-1" strike="noStrike">
                <a:solidFill>
                  <a:srgbClr val="0000ff"/>
                </a:solidFill>
                <a:latin typeface="宋体"/>
                <a:ea typeface="幼圆"/>
              </a:rPr>
              <a:t>6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  <a:ea typeface="幼圆"/>
              </a:rPr>
              <a:t>.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  <a:ea typeface="幼圆"/>
              </a:rPr>
              <a:t>在人生道路上，面对困难，“走一步，再走一步”是什么意思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" descr="图片5"/>
          <p:cNvPicPr/>
          <p:nvPr/>
        </p:nvPicPr>
        <p:blipFill>
          <a:blip r:embed="rId1"/>
          <a:stretch/>
        </p:blipFill>
        <p:spPr>
          <a:xfrm>
            <a:off x="3713040" y="636480"/>
            <a:ext cx="2033640" cy="61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22440" y="929880"/>
            <a:ext cx="7648560" cy="13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分别找出详写、略写的句子；写攀爬悬崖过程中哪些详写？哪些略写？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654120" y="3529800"/>
            <a:ext cx="77724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开头的说明和末尾的点题是略写；当中攀爬悬崖和爬下悬崖的回忆是详写。在写攀爬悬崖过程中，详写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动作和心理活动，其他小朋友的活动则略写。写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爬悬崖的过程详写，详写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怎样在父亲的指导下爬下悬崖，父亲的指导则略写，详写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行动与心理。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6000" y="763200"/>
            <a:ext cx="8443800" cy="137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找出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我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”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爬下悬崖的具体动作以及刻画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我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”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的心理活动的语句，揣摩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我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”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的心理变化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23960" y="2332080"/>
          <a:ext cx="7696080" cy="3567240"/>
        </p:xfrm>
        <a:graphic>
          <a:graphicData uri="http://schemas.openxmlformats.org/drawingml/2006/table">
            <a:tbl>
              <a:tblPr/>
              <a:tblGrid>
                <a:gridCol w="971640"/>
                <a:gridCol w="3884400"/>
                <a:gridCol w="2840040"/>
              </a:tblGrid>
              <a:tr h="423000">
                <a:tc rowSpan="5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00cc"/>
                          </a:solidFill>
                          <a:latin typeface="Times New Roman"/>
                          <a:ea typeface="幼圆"/>
                        </a:rPr>
                        <a:t>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00cc"/>
                          </a:solidFill>
                          <a:latin typeface="Times New Roman"/>
                          <a:ea typeface="幼圆"/>
                        </a:rPr>
                        <a:t>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00cc"/>
                          </a:solidFill>
                          <a:latin typeface="Times New Roman"/>
                          <a:ea typeface="幼圆"/>
                        </a:rPr>
                        <a:t>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00cc"/>
                          </a:solidFill>
                          <a:latin typeface="Times New Roman"/>
                          <a:ea typeface="幼圆"/>
                        </a:rPr>
                        <a:t>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00cc"/>
                          </a:solidFill>
                          <a:latin typeface="Times New Roman"/>
                          <a:ea typeface="幼圆"/>
                        </a:rPr>
                        <a:t>动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00cc"/>
                          </a:solidFill>
                          <a:latin typeface="Times New Roman"/>
                          <a:ea typeface="幼圆"/>
                        </a:rPr>
                        <a:t>心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00cc"/>
                          </a:solidFill>
                          <a:latin typeface="Times New Roman"/>
                          <a:ea typeface="楷体_GB2312"/>
                        </a:rPr>
                        <a:t>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00cc"/>
                          </a:solidFill>
                          <a:latin typeface="Times New Roman"/>
                          <a:ea typeface="楷体_GB2312"/>
                        </a:rPr>
                        <a:t>信心全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00cc"/>
                          </a:solidFill>
                          <a:latin typeface="Times New Roman"/>
                          <a:ea typeface="楷体_GB2312"/>
                        </a:rPr>
                        <a:t>伸、探、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00cc"/>
                          </a:solidFill>
                          <a:latin typeface="Times New Roman"/>
                          <a:ea typeface="楷体_GB2312"/>
                        </a:rPr>
                        <a:t>有了信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00cc"/>
                          </a:solidFill>
                          <a:latin typeface="Times New Roman"/>
                          <a:ea typeface="楷体_GB2312"/>
                        </a:rPr>
                        <a:t>又照着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00cc"/>
                          </a:solidFill>
                          <a:latin typeface="Times New Roman"/>
                          <a:ea typeface="楷体_GB2312"/>
                        </a:rPr>
                        <a:t>信心大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0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00cc"/>
                          </a:solidFill>
                          <a:latin typeface="Times New Roman"/>
                          <a:ea typeface="楷体_GB2312"/>
                        </a:rPr>
                        <a:t>移动、爬下、啜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00cc"/>
                          </a:solidFill>
                          <a:latin typeface="Times New Roman"/>
                          <a:ea typeface="楷体_GB2312"/>
                        </a:rPr>
                        <a:t>巨大的成就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81120" y="1562040"/>
            <a:ext cx="7813440" cy="6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分析“我”爬下悬崖时心理经历过几个变化过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876240" y="3543840"/>
            <a:ext cx="12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继而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876240" y="2767680"/>
            <a:ext cx="12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最初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876240" y="4321800"/>
            <a:ext cx="12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随后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876240" y="5099400"/>
            <a:ext cx="14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最后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6230880" y="2735640"/>
            <a:ext cx="20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毫无信心</a:t>
            </a:r>
            <a:r>
              <a:rPr b="0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2009880" y="2767680"/>
            <a:ext cx="49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下不来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楷体_GB2312"/>
              </a:rPr>
              <a:t>……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会摔死的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6253200" y="3510360"/>
            <a:ext cx="20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信心萌发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2009880" y="354384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似乎是能办到的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6264360" y="4288320"/>
            <a:ext cx="20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信心大增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2"/>
          <p:cNvSpPr/>
          <p:nvPr/>
        </p:nvSpPr>
        <p:spPr>
          <a:xfrm>
            <a:off x="2009880" y="4321800"/>
            <a:ext cx="29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能办得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2009880" y="509004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激动啜泣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6259680" y="502596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巨大成就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5" descr="gbbar"/>
          <p:cNvPicPr/>
          <p:nvPr/>
        </p:nvPicPr>
        <p:blipFill>
          <a:blip r:embed="rId1"/>
          <a:stretch/>
        </p:blipFill>
        <p:spPr>
          <a:xfrm>
            <a:off x="579600" y="644400"/>
            <a:ext cx="799452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4600" y="1314000"/>
            <a:ext cx="8201160" cy="137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4.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文中写那座悬崖并不是很高，父亲完全可以扛梯子把孩子抱下来，可他为什么没有上去救孩子呢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504720" y="2891520"/>
            <a:ext cx="8082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因为这位父亲深知，如果自己上去救，孩子的能力就毫无长进，他让孩子自己下来，经受一次历练，增长勇气和经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4"/>
          <p:cNvGrpSpPr/>
          <p:nvPr/>
        </p:nvGrpSpPr>
        <p:grpSpPr>
          <a:xfrm>
            <a:off x="752400" y="5284800"/>
            <a:ext cx="7701840" cy="877680"/>
            <a:chOff x="752400" y="5284800"/>
            <a:chExt cx="7701840" cy="877680"/>
          </a:xfrm>
        </p:grpSpPr>
        <p:sp>
          <p:nvSpPr>
            <p:cNvPr id="222" name="未知"/>
            <p:cNvSpPr/>
            <p:nvPr/>
          </p:nvSpPr>
          <p:spPr>
            <a:xfrm>
              <a:off x="752400" y="5434200"/>
              <a:ext cx="1541880" cy="419400"/>
            </a:xfrm>
            <a:prstGeom prst="pie">
              <a:avLst/>
            </a:pr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6"/>
            <p:cNvSpPr/>
            <p:nvPr/>
          </p:nvSpPr>
          <p:spPr>
            <a:xfrm>
              <a:off x="752400" y="5828400"/>
              <a:ext cx="1539360" cy="30888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5400360" y="5418720"/>
              <a:ext cx="3053880" cy="434880"/>
            </a:xfrm>
            <a:prstGeom prst="pie">
              <a:avLst/>
            </a:pr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8"/>
            <p:cNvSpPr/>
            <p:nvPr/>
          </p:nvSpPr>
          <p:spPr>
            <a:xfrm>
              <a:off x="5397840" y="5853960"/>
              <a:ext cx="3056400" cy="30852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5397840" y="5669280"/>
              <a:ext cx="6624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5497200" y="5669280"/>
              <a:ext cx="6876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5601960" y="5669280"/>
              <a:ext cx="6912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12"/>
            <p:cNvSpPr/>
            <p:nvPr/>
          </p:nvSpPr>
          <p:spPr>
            <a:xfrm>
              <a:off x="5397840" y="571824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3"/>
            <p:cNvSpPr/>
            <p:nvPr/>
          </p:nvSpPr>
          <p:spPr>
            <a:xfrm>
              <a:off x="5397840" y="580752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未知"/>
            <p:cNvSpPr/>
            <p:nvPr/>
          </p:nvSpPr>
          <p:spPr>
            <a:xfrm>
              <a:off x="7392240" y="5669280"/>
              <a:ext cx="6624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未知"/>
            <p:cNvSpPr/>
            <p:nvPr/>
          </p:nvSpPr>
          <p:spPr>
            <a:xfrm>
              <a:off x="7491600" y="5669280"/>
              <a:ext cx="6876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未知"/>
            <p:cNvSpPr/>
            <p:nvPr/>
          </p:nvSpPr>
          <p:spPr>
            <a:xfrm>
              <a:off x="7596720" y="5669280"/>
              <a:ext cx="6876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未知"/>
            <p:cNvSpPr/>
            <p:nvPr/>
          </p:nvSpPr>
          <p:spPr>
            <a:xfrm>
              <a:off x="7701480" y="5669280"/>
              <a:ext cx="6876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未知"/>
            <p:cNvSpPr/>
            <p:nvPr/>
          </p:nvSpPr>
          <p:spPr>
            <a:xfrm>
              <a:off x="7806240" y="5669280"/>
              <a:ext cx="68760" cy="20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未知"/>
            <p:cNvSpPr/>
            <p:nvPr/>
          </p:nvSpPr>
          <p:spPr>
            <a:xfrm>
              <a:off x="7911000" y="5680440"/>
              <a:ext cx="68760" cy="20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未知"/>
            <p:cNvSpPr/>
            <p:nvPr/>
          </p:nvSpPr>
          <p:spPr>
            <a:xfrm>
              <a:off x="8018640" y="5691600"/>
              <a:ext cx="66240" cy="21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未知"/>
            <p:cNvSpPr/>
            <p:nvPr/>
          </p:nvSpPr>
          <p:spPr>
            <a:xfrm>
              <a:off x="8123400" y="5705280"/>
              <a:ext cx="66240" cy="23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未知"/>
            <p:cNvSpPr/>
            <p:nvPr/>
          </p:nvSpPr>
          <p:spPr>
            <a:xfrm>
              <a:off x="8228160" y="5726520"/>
              <a:ext cx="66240" cy="260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未知"/>
            <p:cNvSpPr/>
            <p:nvPr/>
          </p:nvSpPr>
          <p:spPr>
            <a:xfrm>
              <a:off x="8333280" y="5750280"/>
              <a:ext cx="66240" cy="30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未知"/>
            <p:cNvSpPr/>
            <p:nvPr/>
          </p:nvSpPr>
          <p:spPr>
            <a:xfrm>
              <a:off x="8437680" y="5802120"/>
              <a:ext cx="16560" cy="29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未知"/>
            <p:cNvSpPr/>
            <p:nvPr/>
          </p:nvSpPr>
          <p:spPr>
            <a:xfrm>
              <a:off x="7356600" y="5718240"/>
              <a:ext cx="1097640" cy="14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未知"/>
            <p:cNvSpPr/>
            <p:nvPr/>
          </p:nvSpPr>
          <p:spPr>
            <a:xfrm>
              <a:off x="7356600" y="5807520"/>
              <a:ext cx="1097640" cy="21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未知"/>
            <p:cNvSpPr/>
            <p:nvPr/>
          </p:nvSpPr>
          <p:spPr>
            <a:xfrm>
              <a:off x="5690160" y="5669280"/>
              <a:ext cx="6624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未知"/>
            <p:cNvSpPr/>
            <p:nvPr/>
          </p:nvSpPr>
          <p:spPr>
            <a:xfrm>
              <a:off x="5789520" y="5669280"/>
              <a:ext cx="6876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未知"/>
            <p:cNvSpPr/>
            <p:nvPr/>
          </p:nvSpPr>
          <p:spPr>
            <a:xfrm>
              <a:off x="5894640" y="5669280"/>
              <a:ext cx="6876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30"/>
            <p:cNvSpPr/>
            <p:nvPr/>
          </p:nvSpPr>
          <p:spPr>
            <a:xfrm>
              <a:off x="5690160" y="571824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31"/>
            <p:cNvSpPr/>
            <p:nvPr/>
          </p:nvSpPr>
          <p:spPr>
            <a:xfrm>
              <a:off x="5690160" y="580752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未知"/>
            <p:cNvSpPr/>
            <p:nvPr/>
          </p:nvSpPr>
          <p:spPr>
            <a:xfrm>
              <a:off x="5982840" y="5669280"/>
              <a:ext cx="6624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未知"/>
            <p:cNvSpPr/>
            <p:nvPr/>
          </p:nvSpPr>
          <p:spPr>
            <a:xfrm>
              <a:off x="6078960" y="5669280"/>
              <a:ext cx="6876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未知"/>
            <p:cNvSpPr/>
            <p:nvPr/>
          </p:nvSpPr>
          <p:spPr>
            <a:xfrm>
              <a:off x="6186600" y="5669280"/>
              <a:ext cx="6876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35"/>
            <p:cNvSpPr/>
            <p:nvPr/>
          </p:nvSpPr>
          <p:spPr>
            <a:xfrm>
              <a:off x="5982840" y="571824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36"/>
            <p:cNvSpPr/>
            <p:nvPr/>
          </p:nvSpPr>
          <p:spPr>
            <a:xfrm>
              <a:off x="5982840" y="580752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未知"/>
            <p:cNvSpPr/>
            <p:nvPr/>
          </p:nvSpPr>
          <p:spPr>
            <a:xfrm>
              <a:off x="6274800" y="5669280"/>
              <a:ext cx="6624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未知"/>
            <p:cNvSpPr/>
            <p:nvPr/>
          </p:nvSpPr>
          <p:spPr>
            <a:xfrm>
              <a:off x="6372000" y="5669280"/>
              <a:ext cx="6876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未知"/>
            <p:cNvSpPr/>
            <p:nvPr/>
          </p:nvSpPr>
          <p:spPr>
            <a:xfrm>
              <a:off x="6476400" y="5669280"/>
              <a:ext cx="6876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40"/>
            <p:cNvSpPr/>
            <p:nvPr/>
          </p:nvSpPr>
          <p:spPr>
            <a:xfrm>
              <a:off x="6274800" y="571824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41"/>
            <p:cNvSpPr/>
            <p:nvPr/>
          </p:nvSpPr>
          <p:spPr>
            <a:xfrm>
              <a:off x="6274800" y="580752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未知"/>
            <p:cNvSpPr/>
            <p:nvPr/>
          </p:nvSpPr>
          <p:spPr>
            <a:xfrm>
              <a:off x="6564600" y="5669280"/>
              <a:ext cx="6912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未知"/>
            <p:cNvSpPr/>
            <p:nvPr/>
          </p:nvSpPr>
          <p:spPr>
            <a:xfrm>
              <a:off x="6663960" y="5669280"/>
              <a:ext cx="6876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未知"/>
            <p:cNvSpPr/>
            <p:nvPr/>
          </p:nvSpPr>
          <p:spPr>
            <a:xfrm>
              <a:off x="6769080" y="5669280"/>
              <a:ext cx="6876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45"/>
            <p:cNvSpPr/>
            <p:nvPr/>
          </p:nvSpPr>
          <p:spPr>
            <a:xfrm>
              <a:off x="6564600" y="5718240"/>
              <a:ext cx="29808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46"/>
            <p:cNvSpPr/>
            <p:nvPr/>
          </p:nvSpPr>
          <p:spPr>
            <a:xfrm>
              <a:off x="6564600" y="5807520"/>
              <a:ext cx="29808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未知"/>
            <p:cNvSpPr/>
            <p:nvPr/>
          </p:nvSpPr>
          <p:spPr>
            <a:xfrm>
              <a:off x="6857280" y="5669280"/>
              <a:ext cx="6876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未知"/>
            <p:cNvSpPr/>
            <p:nvPr/>
          </p:nvSpPr>
          <p:spPr>
            <a:xfrm>
              <a:off x="6956280" y="5669280"/>
              <a:ext cx="6912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未知"/>
            <p:cNvSpPr/>
            <p:nvPr/>
          </p:nvSpPr>
          <p:spPr>
            <a:xfrm>
              <a:off x="7061400" y="5669280"/>
              <a:ext cx="6876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50"/>
            <p:cNvSpPr/>
            <p:nvPr/>
          </p:nvSpPr>
          <p:spPr>
            <a:xfrm>
              <a:off x="6857280" y="571824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51"/>
            <p:cNvSpPr/>
            <p:nvPr/>
          </p:nvSpPr>
          <p:spPr>
            <a:xfrm>
              <a:off x="6857280" y="580752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>
              <a:off x="7149600" y="5669280"/>
              <a:ext cx="6876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未知"/>
            <p:cNvSpPr/>
            <p:nvPr/>
          </p:nvSpPr>
          <p:spPr>
            <a:xfrm>
              <a:off x="7248960" y="5669280"/>
              <a:ext cx="6876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未知"/>
            <p:cNvSpPr/>
            <p:nvPr/>
          </p:nvSpPr>
          <p:spPr>
            <a:xfrm>
              <a:off x="7353360" y="5669280"/>
              <a:ext cx="6912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55"/>
            <p:cNvSpPr/>
            <p:nvPr/>
          </p:nvSpPr>
          <p:spPr>
            <a:xfrm>
              <a:off x="7149600" y="571824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56"/>
            <p:cNvSpPr/>
            <p:nvPr/>
          </p:nvSpPr>
          <p:spPr>
            <a:xfrm>
              <a:off x="7149600" y="580752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未知"/>
            <p:cNvSpPr/>
            <p:nvPr/>
          </p:nvSpPr>
          <p:spPr>
            <a:xfrm>
              <a:off x="7439040" y="5375520"/>
              <a:ext cx="838800" cy="587160"/>
            </a:xfrm>
            <a:prstGeom prst="pie">
              <a:avLst/>
            </a:pr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未知"/>
            <p:cNvSpPr/>
            <p:nvPr/>
          </p:nvSpPr>
          <p:spPr>
            <a:xfrm>
              <a:off x="7202160" y="5284800"/>
              <a:ext cx="1174680" cy="429120"/>
            </a:xfrm>
            <a:prstGeom prst="pie">
              <a:avLst/>
            </a:pr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未知"/>
            <p:cNvSpPr/>
            <p:nvPr/>
          </p:nvSpPr>
          <p:spPr>
            <a:xfrm>
              <a:off x="2294280" y="5423040"/>
              <a:ext cx="3103560" cy="430560"/>
            </a:xfrm>
            <a:prstGeom prst="pie">
              <a:avLst/>
            </a:pr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未知"/>
            <p:cNvSpPr/>
            <p:nvPr/>
          </p:nvSpPr>
          <p:spPr>
            <a:xfrm>
              <a:off x="2363040" y="5407560"/>
              <a:ext cx="485280" cy="446040"/>
            </a:xfrm>
            <a:prstGeom prst="pie">
              <a:avLst/>
            </a:pr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未知"/>
            <p:cNvSpPr/>
            <p:nvPr/>
          </p:nvSpPr>
          <p:spPr>
            <a:xfrm>
              <a:off x="2553840" y="5540400"/>
              <a:ext cx="1045080" cy="313200"/>
            </a:xfrm>
            <a:prstGeom prst="pie">
              <a:avLst/>
            </a:pr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未知"/>
            <p:cNvSpPr/>
            <p:nvPr/>
          </p:nvSpPr>
          <p:spPr>
            <a:xfrm>
              <a:off x="2545200" y="5513760"/>
              <a:ext cx="1064520" cy="18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63"/>
            <p:cNvSpPr/>
            <p:nvPr/>
          </p:nvSpPr>
          <p:spPr>
            <a:xfrm>
              <a:off x="2584080" y="5711040"/>
              <a:ext cx="369720" cy="14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未知"/>
            <p:cNvSpPr/>
            <p:nvPr/>
          </p:nvSpPr>
          <p:spPr>
            <a:xfrm>
              <a:off x="2760480" y="5513760"/>
              <a:ext cx="849240" cy="166320"/>
            </a:xfrm>
            <a:prstGeom prst="pie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65"/>
            <p:cNvSpPr/>
            <p:nvPr/>
          </p:nvSpPr>
          <p:spPr>
            <a:xfrm>
              <a:off x="2608920" y="5722200"/>
              <a:ext cx="313920" cy="13140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66"/>
            <p:cNvSpPr/>
            <p:nvPr/>
          </p:nvSpPr>
          <p:spPr>
            <a:xfrm>
              <a:off x="2291760" y="5853960"/>
              <a:ext cx="3105720" cy="30852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未知"/>
            <p:cNvSpPr/>
            <p:nvPr/>
          </p:nvSpPr>
          <p:spPr>
            <a:xfrm>
              <a:off x="3540960" y="5321160"/>
              <a:ext cx="1199880" cy="286560"/>
            </a:xfrm>
            <a:prstGeom prst="pie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未知"/>
            <p:cNvSpPr/>
            <p:nvPr/>
          </p:nvSpPr>
          <p:spPr>
            <a:xfrm>
              <a:off x="3552480" y="5409000"/>
              <a:ext cx="1481400" cy="444600"/>
            </a:xfrm>
            <a:prstGeom prst="pie">
              <a:avLst/>
            </a:pr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69"/>
            <p:cNvSpPr/>
            <p:nvPr/>
          </p:nvSpPr>
          <p:spPr>
            <a:xfrm>
              <a:off x="3577320" y="5650920"/>
              <a:ext cx="860040" cy="19404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未知"/>
            <p:cNvSpPr/>
            <p:nvPr/>
          </p:nvSpPr>
          <p:spPr>
            <a:xfrm>
              <a:off x="4788000" y="5775480"/>
              <a:ext cx="480240" cy="78120"/>
            </a:xfrm>
            <a:prstGeom prst="pie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71"/>
            <p:cNvSpPr/>
            <p:nvPr/>
          </p:nvSpPr>
          <p:spPr>
            <a:xfrm>
              <a:off x="4788000" y="5646600"/>
              <a:ext cx="204480" cy="12852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72"/>
            <p:cNvSpPr/>
            <p:nvPr/>
          </p:nvSpPr>
          <p:spPr>
            <a:xfrm>
              <a:off x="3985200" y="5671800"/>
              <a:ext cx="369720" cy="14544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73"/>
            <p:cNvSpPr/>
            <p:nvPr/>
          </p:nvSpPr>
          <p:spPr>
            <a:xfrm>
              <a:off x="4829760" y="5660640"/>
              <a:ext cx="12384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3540960" y="5372640"/>
              <a:ext cx="1503720" cy="262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75"/>
            <p:cNvSpPr/>
            <p:nvPr/>
          </p:nvSpPr>
          <p:spPr>
            <a:xfrm>
              <a:off x="4090320" y="5680440"/>
              <a:ext cx="15984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76"/>
            <p:cNvSpPr/>
            <p:nvPr/>
          </p:nvSpPr>
          <p:spPr>
            <a:xfrm>
              <a:off x="4004640" y="5680440"/>
              <a:ext cx="6624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77"/>
            <p:cNvSpPr/>
            <p:nvPr/>
          </p:nvSpPr>
          <p:spPr>
            <a:xfrm>
              <a:off x="4272480" y="5680440"/>
              <a:ext cx="6300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78"/>
            <p:cNvSpPr/>
            <p:nvPr/>
          </p:nvSpPr>
          <p:spPr>
            <a:xfrm>
              <a:off x="4567680" y="5680440"/>
              <a:ext cx="10188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79"/>
            <p:cNvSpPr/>
            <p:nvPr/>
          </p:nvSpPr>
          <p:spPr>
            <a:xfrm>
              <a:off x="4501440" y="5680440"/>
              <a:ext cx="4680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80"/>
            <p:cNvSpPr/>
            <p:nvPr/>
          </p:nvSpPr>
          <p:spPr>
            <a:xfrm>
              <a:off x="4691520" y="5680440"/>
              <a:ext cx="4680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4652640" y="5506920"/>
              <a:ext cx="74160" cy="2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4755240" y="5506920"/>
              <a:ext cx="76680" cy="2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4697280" y="5491800"/>
              <a:ext cx="88200" cy="3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4752360" y="5524920"/>
              <a:ext cx="479520" cy="12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85"/>
            <p:cNvSpPr/>
            <p:nvPr/>
          </p:nvSpPr>
          <p:spPr>
            <a:xfrm>
              <a:off x="5067000" y="5820120"/>
              <a:ext cx="190080" cy="2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86"/>
            <p:cNvSpPr/>
            <p:nvPr/>
          </p:nvSpPr>
          <p:spPr>
            <a:xfrm>
              <a:off x="5003280" y="5782320"/>
              <a:ext cx="190800" cy="2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5000760" y="5561280"/>
              <a:ext cx="220680" cy="84960"/>
            </a:xfrm>
            <a:prstGeom prst="pie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88"/>
            <p:cNvSpPr/>
            <p:nvPr/>
          </p:nvSpPr>
          <p:spPr>
            <a:xfrm>
              <a:off x="5171400" y="5646600"/>
              <a:ext cx="24840" cy="12852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4801680" y="5524920"/>
              <a:ext cx="306360" cy="95040"/>
            </a:xfrm>
            <a:prstGeom prst="pie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90"/>
            <p:cNvSpPr/>
            <p:nvPr/>
          </p:nvSpPr>
          <p:spPr>
            <a:xfrm>
              <a:off x="4992480" y="5646600"/>
              <a:ext cx="41040" cy="12852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91"/>
            <p:cNvSpPr/>
            <p:nvPr/>
          </p:nvSpPr>
          <p:spPr>
            <a:xfrm>
              <a:off x="4788000" y="5646600"/>
              <a:ext cx="41760" cy="12852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1734480" y="5853960"/>
              <a:ext cx="1218960" cy="30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3276360" y="5712480"/>
              <a:ext cx="123840" cy="237600"/>
            </a:xfrm>
            <a:prstGeom prst="pie">
              <a:avLst/>
            </a:pr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3290400" y="5731920"/>
              <a:ext cx="71640" cy="6840"/>
            </a:xfrm>
            <a:prstGeom prst="pie">
              <a:avLst/>
            </a:pr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3290400" y="5762880"/>
              <a:ext cx="74160" cy="5400"/>
            </a:xfrm>
            <a:prstGeom prst="pie">
              <a:avLst/>
            </a:pr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3290400" y="5754600"/>
              <a:ext cx="74160" cy="3960"/>
            </a:xfrm>
            <a:prstGeom prst="pie">
              <a:avLst/>
            </a:pr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未知"/>
            <p:cNvSpPr/>
            <p:nvPr/>
          </p:nvSpPr>
          <p:spPr>
            <a:xfrm>
              <a:off x="3290400" y="5796360"/>
              <a:ext cx="79920" cy="6840"/>
            </a:xfrm>
            <a:prstGeom prst="pie">
              <a:avLst/>
            </a:pr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未知"/>
            <p:cNvSpPr/>
            <p:nvPr/>
          </p:nvSpPr>
          <p:spPr>
            <a:xfrm>
              <a:off x="3290400" y="5789520"/>
              <a:ext cx="79920" cy="3960"/>
            </a:xfrm>
            <a:prstGeom prst="pie">
              <a:avLst/>
            </a:pr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901080" y="5378040"/>
              <a:ext cx="838800" cy="620640"/>
            </a:xfrm>
            <a:prstGeom prst="pie">
              <a:avLst/>
            </a:pr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>
              <a:off x="760320" y="5292720"/>
              <a:ext cx="1125360" cy="416880"/>
            </a:xfrm>
            <a:prstGeom prst="pie">
              <a:avLst/>
            </a:pr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>
              <a:off x="1632600" y="5820120"/>
              <a:ext cx="219960" cy="129960"/>
            </a:xfrm>
            <a:prstGeom prst="pie">
              <a:avLst/>
            </a:pr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>
              <a:off x="1262880" y="5870520"/>
              <a:ext cx="129240" cy="69480"/>
            </a:xfrm>
            <a:prstGeom prst="pie">
              <a:avLst/>
            </a:pr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884160" y="1424160"/>
            <a:ext cx="7669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从课文内容看，“走一步，再走一步”是什么意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932040" y="2808360"/>
            <a:ext cx="7553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无论怎样的危险和困难，只要把它分解开来，分解为一小步一小步，困难就不大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4" descr="469"/>
          <p:cNvPicPr/>
          <p:nvPr/>
        </p:nvPicPr>
        <p:blipFill>
          <a:blip r:embed="rId1"/>
          <a:stretch/>
        </p:blipFill>
        <p:spPr>
          <a:xfrm>
            <a:off x="7128000" y="5338800"/>
            <a:ext cx="1272960" cy="7826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" descr="3"/>
          <p:cNvPicPr/>
          <p:nvPr/>
        </p:nvPicPr>
        <p:blipFill>
          <a:blip r:embed="rId2"/>
          <a:stretch/>
        </p:blipFill>
        <p:spPr>
          <a:xfrm>
            <a:off x="603360" y="5473800"/>
            <a:ext cx="3590640" cy="53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2"/>
          <p:cNvSpPr/>
          <p:nvPr/>
        </p:nvSpPr>
        <p:spPr>
          <a:xfrm>
            <a:off x="665280" y="1020600"/>
            <a:ext cx="78055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在人生道路上，面对困难，“走一步，再走一步”是什么意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663480" y="2349360"/>
            <a:ext cx="78328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它告诉我们，在人生道路上，无论面临怎样的困难和危险，只要把它分解开来，分解成一小步一小步，一步一步战胜小困难，最后就能战胜最大的困难。当然，关键在于走好每一步，要一步一步坚持不懈地走下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4" descr="032611"/>
          <p:cNvPicPr/>
          <p:nvPr/>
        </p:nvPicPr>
        <p:blipFill>
          <a:blip r:embed="rId1"/>
          <a:stretch/>
        </p:blipFill>
        <p:spPr>
          <a:xfrm>
            <a:off x="958680" y="6016680"/>
            <a:ext cx="7162920" cy="3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pic_31669"/>
          <p:cNvPicPr/>
          <p:nvPr/>
        </p:nvPicPr>
        <p:blipFill>
          <a:blip r:embed="rId1">
            <a:lum contrast="18000"/>
          </a:blip>
          <a:srcRect l="0" t="0" r="-100" b="1421"/>
          <a:stretch/>
        </p:blipFill>
        <p:spPr>
          <a:xfrm>
            <a:off x="771480" y="844560"/>
            <a:ext cx="7580520" cy="5442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6fe8bffa1d3d8b60242df258"/>
          <p:cNvPicPr/>
          <p:nvPr/>
        </p:nvPicPr>
        <p:blipFill>
          <a:blip r:embed="rId2"/>
          <a:srcRect l="0" t="0" r="0" b="1490"/>
          <a:stretch/>
        </p:blipFill>
        <p:spPr>
          <a:xfrm>
            <a:off x="771480" y="844560"/>
            <a:ext cx="7661160" cy="5452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103b7e00a55f00b8e950cd8b"/>
          <p:cNvPicPr/>
          <p:nvPr/>
        </p:nvPicPr>
        <p:blipFill>
          <a:blip r:embed="rId3"/>
          <a:srcRect l="0" t="0" r="0" b="2115"/>
          <a:stretch/>
        </p:blipFill>
        <p:spPr>
          <a:xfrm>
            <a:off x="771480" y="844560"/>
            <a:ext cx="7620120" cy="5437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08565D1C6B7F275C907A283942D81828"/>
          <p:cNvPicPr/>
          <p:nvPr/>
        </p:nvPicPr>
        <p:blipFill>
          <a:blip r:embed="rId4"/>
          <a:stretch/>
        </p:blipFill>
        <p:spPr>
          <a:xfrm>
            <a:off x="771480" y="844560"/>
            <a:ext cx="7680240" cy="545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2"/>
          <p:cNvSpPr/>
          <p:nvPr/>
        </p:nvSpPr>
        <p:spPr>
          <a:xfrm>
            <a:off x="357120" y="1601640"/>
            <a:ext cx="557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请你评论四个孩子的行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357120" y="2050920"/>
            <a:ext cx="84312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在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爬上悬崖，陷入困难时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杰利看来好像有点不放心，但还是和大家一起走了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；后来是杰利去把父亲找来的，说明他还是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  <a:ea typeface="楷体_GB2312"/>
              </a:rPr>
              <a:t>富于友情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357120" y="4011480"/>
            <a:ext cx="8431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文中其他四个孩子，在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陷入困境时则把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丢在那儿不管，还无情地嘲笑，这样对待一起玩的伙伴则有些恶劣，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  <a:ea typeface="楷体_GB2312"/>
              </a:rPr>
              <a:t>没有患难与共的爱心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5" descr="taoshu"/>
          <p:cNvPicPr/>
          <p:nvPr/>
        </p:nvPicPr>
        <p:blipFill>
          <a:blip r:embed="rId1"/>
          <a:stretch/>
        </p:blipFill>
        <p:spPr>
          <a:xfrm>
            <a:off x="5686560" y="658800"/>
            <a:ext cx="3365280" cy="8413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图片7"/>
          <p:cNvPicPr/>
          <p:nvPr/>
        </p:nvPicPr>
        <p:blipFill>
          <a:blip r:embed="rId2"/>
          <a:stretch/>
        </p:blipFill>
        <p:spPr>
          <a:xfrm>
            <a:off x="3519360" y="727200"/>
            <a:ext cx="2033640" cy="61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249120" y="1312560"/>
            <a:ext cx="87170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假如“我”的父亲急忙赶到悬崖下面，一面安慰“我”，一面急忙爬上悬崖，把“我”扶下来，这种做法和文中父亲的做法你更喜欢哪一种？为什么？</a:t>
            </a:r>
            <a:r>
              <a:rPr b="1" lang="zh-CN" sz="2600" spc="-1" strike="noStrike">
                <a:solidFill>
                  <a:srgbClr val="ff3300"/>
                </a:solidFill>
                <a:latin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312840" y="3729600"/>
            <a:ext cx="85312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孩子的路终究要靠自己去走，总靠别人扶，不是长久之计。父亲指引儿子独立走下来，恰恰是让儿子经过这种历练增加独立克服困难的勇气和经验。在我们的生活中，家长、老师其实也给了我们很多这类的指导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4" descr="04"/>
          <p:cNvPicPr/>
          <p:nvPr/>
        </p:nvPicPr>
        <p:blipFill>
          <a:blip r:embed="rId1"/>
          <a:stretch/>
        </p:blipFill>
        <p:spPr>
          <a:xfrm>
            <a:off x="692280" y="5856120"/>
            <a:ext cx="782784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2"/>
          <p:cNvSpPr/>
          <p:nvPr/>
        </p:nvSpPr>
        <p:spPr>
          <a:xfrm>
            <a:off x="647640" y="1623960"/>
            <a:ext cx="78469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一个人在旅途中，不可能一帆风顺，事事都顺你意，遇到困难，感受挫折，都是正常的。只要我们不失自信，牢记“不要想着距离有多远，你只要想着你是在走一小步，你能办得到的”，那么，什么样的艰难险阻都将被你踩在脚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3" descr="469"/>
          <p:cNvPicPr/>
          <p:nvPr/>
        </p:nvPicPr>
        <p:blipFill>
          <a:blip r:embed="rId1"/>
          <a:stretch/>
        </p:blipFill>
        <p:spPr>
          <a:xfrm>
            <a:off x="7569360" y="776160"/>
            <a:ext cx="1272960" cy="78264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4"/>
          <p:cNvGrpSpPr/>
          <p:nvPr/>
        </p:nvGrpSpPr>
        <p:grpSpPr>
          <a:xfrm>
            <a:off x="720720" y="5330880"/>
            <a:ext cx="7701840" cy="877320"/>
            <a:chOff x="720720" y="5330880"/>
            <a:chExt cx="7701840" cy="877320"/>
          </a:xfrm>
        </p:grpSpPr>
        <p:sp>
          <p:nvSpPr>
            <p:cNvPr id="338" name="未知"/>
            <p:cNvSpPr/>
            <p:nvPr/>
          </p:nvSpPr>
          <p:spPr>
            <a:xfrm>
              <a:off x="720720" y="5480280"/>
              <a:ext cx="1541880" cy="419040"/>
            </a:xfrm>
            <a:prstGeom prst="pie">
              <a:avLst/>
            </a:pr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6"/>
            <p:cNvSpPr/>
            <p:nvPr/>
          </p:nvSpPr>
          <p:spPr>
            <a:xfrm>
              <a:off x="720720" y="5874480"/>
              <a:ext cx="1539360" cy="30888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5368680" y="5464800"/>
              <a:ext cx="3053880" cy="434880"/>
            </a:xfrm>
            <a:prstGeom prst="pie">
              <a:avLst/>
            </a:pr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8"/>
            <p:cNvSpPr/>
            <p:nvPr/>
          </p:nvSpPr>
          <p:spPr>
            <a:xfrm>
              <a:off x="5366160" y="5899680"/>
              <a:ext cx="3056400" cy="30852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5366160" y="5715360"/>
              <a:ext cx="6624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5465520" y="5715360"/>
              <a:ext cx="6876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5570280" y="5715360"/>
              <a:ext cx="6912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2"/>
            <p:cNvSpPr/>
            <p:nvPr/>
          </p:nvSpPr>
          <p:spPr>
            <a:xfrm>
              <a:off x="5366160" y="576396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13"/>
            <p:cNvSpPr/>
            <p:nvPr/>
          </p:nvSpPr>
          <p:spPr>
            <a:xfrm>
              <a:off x="5366160" y="585324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7360560" y="5715360"/>
              <a:ext cx="6624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7459920" y="5715360"/>
              <a:ext cx="6876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7565040" y="5715360"/>
              <a:ext cx="6876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未知"/>
            <p:cNvSpPr/>
            <p:nvPr/>
          </p:nvSpPr>
          <p:spPr>
            <a:xfrm>
              <a:off x="7669800" y="5715360"/>
              <a:ext cx="6876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未知"/>
            <p:cNvSpPr/>
            <p:nvPr/>
          </p:nvSpPr>
          <p:spPr>
            <a:xfrm>
              <a:off x="7774560" y="5715360"/>
              <a:ext cx="68760" cy="20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7879320" y="5726160"/>
              <a:ext cx="68760" cy="206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7986960" y="5737320"/>
              <a:ext cx="66240" cy="217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8091720" y="5751360"/>
              <a:ext cx="66240" cy="23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8196480" y="5772240"/>
              <a:ext cx="66240" cy="259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8301600" y="5796000"/>
              <a:ext cx="66240" cy="302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8406000" y="5847840"/>
              <a:ext cx="16560" cy="297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7324920" y="5763960"/>
              <a:ext cx="1097640" cy="14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7324920" y="5853240"/>
              <a:ext cx="1097640" cy="21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5658480" y="5715360"/>
              <a:ext cx="6624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5757840" y="5715360"/>
              <a:ext cx="6876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未知"/>
            <p:cNvSpPr/>
            <p:nvPr/>
          </p:nvSpPr>
          <p:spPr>
            <a:xfrm>
              <a:off x="5862960" y="5715360"/>
              <a:ext cx="6876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30"/>
            <p:cNvSpPr/>
            <p:nvPr/>
          </p:nvSpPr>
          <p:spPr>
            <a:xfrm>
              <a:off x="5658480" y="576396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31"/>
            <p:cNvSpPr/>
            <p:nvPr/>
          </p:nvSpPr>
          <p:spPr>
            <a:xfrm>
              <a:off x="5658480" y="585324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5951160" y="5715360"/>
              <a:ext cx="6624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6047280" y="5715360"/>
              <a:ext cx="6876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6154920" y="5715360"/>
              <a:ext cx="6876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35"/>
            <p:cNvSpPr/>
            <p:nvPr/>
          </p:nvSpPr>
          <p:spPr>
            <a:xfrm>
              <a:off x="5951160" y="576396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36"/>
            <p:cNvSpPr/>
            <p:nvPr/>
          </p:nvSpPr>
          <p:spPr>
            <a:xfrm>
              <a:off x="5951160" y="585324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6243120" y="5715360"/>
              <a:ext cx="6624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6340320" y="5715360"/>
              <a:ext cx="6876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6444720" y="5715360"/>
              <a:ext cx="6876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40"/>
            <p:cNvSpPr/>
            <p:nvPr/>
          </p:nvSpPr>
          <p:spPr>
            <a:xfrm>
              <a:off x="6243120" y="576396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41"/>
            <p:cNvSpPr/>
            <p:nvPr/>
          </p:nvSpPr>
          <p:spPr>
            <a:xfrm>
              <a:off x="6243120" y="585324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未知"/>
            <p:cNvSpPr/>
            <p:nvPr/>
          </p:nvSpPr>
          <p:spPr>
            <a:xfrm>
              <a:off x="6532920" y="5715360"/>
              <a:ext cx="6912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6632280" y="5715360"/>
              <a:ext cx="6876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6737400" y="5715360"/>
              <a:ext cx="6876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45"/>
            <p:cNvSpPr/>
            <p:nvPr/>
          </p:nvSpPr>
          <p:spPr>
            <a:xfrm>
              <a:off x="6532920" y="5763960"/>
              <a:ext cx="29808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46"/>
            <p:cNvSpPr/>
            <p:nvPr/>
          </p:nvSpPr>
          <p:spPr>
            <a:xfrm>
              <a:off x="6532920" y="5853240"/>
              <a:ext cx="29808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6825600" y="5715360"/>
              <a:ext cx="6876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6924600" y="5715360"/>
              <a:ext cx="6912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7029720" y="5715360"/>
              <a:ext cx="6876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50"/>
            <p:cNvSpPr/>
            <p:nvPr/>
          </p:nvSpPr>
          <p:spPr>
            <a:xfrm>
              <a:off x="6825600" y="576396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51"/>
            <p:cNvSpPr/>
            <p:nvPr/>
          </p:nvSpPr>
          <p:spPr>
            <a:xfrm>
              <a:off x="6825600" y="585324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7117920" y="5715360"/>
              <a:ext cx="6876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未知"/>
            <p:cNvSpPr/>
            <p:nvPr/>
          </p:nvSpPr>
          <p:spPr>
            <a:xfrm>
              <a:off x="7217280" y="5715360"/>
              <a:ext cx="6876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未知"/>
            <p:cNvSpPr/>
            <p:nvPr/>
          </p:nvSpPr>
          <p:spPr>
            <a:xfrm>
              <a:off x="7321680" y="5715360"/>
              <a:ext cx="69120" cy="18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55"/>
            <p:cNvSpPr/>
            <p:nvPr/>
          </p:nvSpPr>
          <p:spPr>
            <a:xfrm>
              <a:off x="7117920" y="576396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56"/>
            <p:cNvSpPr/>
            <p:nvPr/>
          </p:nvSpPr>
          <p:spPr>
            <a:xfrm>
              <a:off x="7117920" y="5853240"/>
              <a:ext cx="2952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7407360" y="5421600"/>
              <a:ext cx="838800" cy="586800"/>
            </a:xfrm>
            <a:prstGeom prst="pie">
              <a:avLst/>
            </a:pr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7170480" y="5330880"/>
              <a:ext cx="1174680" cy="429120"/>
            </a:xfrm>
            <a:prstGeom prst="pie">
              <a:avLst/>
            </a:pr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2262600" y="5469120"/>
              <a:ext cx="3103560" cy="430200"/>
            </a:xfrm>
            <a:prstGeom prst="pie">
              <a:avLst/>
            </a:pr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2331360" y="5453640"/>
              <a:ext cx="485280" cy="445680"/>
            </a:xfrm>
            <a:prstGeom prst="pie">
              <a:avLst/>
            </a:pr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2522160" y="5586480"/>
              <a:ext cx="1045080" cy="312840"/>
            </a:xfrm>
            <a:prstGeom prst="pie">
              <a:avLst/>
            </a:pr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2513520" y="5559840"/>
              <a:ext cx="1064520" cy="18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63"/>
            <p:cNvSpPr/>
            <p:nvPr/>
          </p:nvSpPr>
          <p:spPr>
            <a:xfrm>
              <a:off x="2552400" y="5757120"/>
              <a:ext cx="369720" cy="14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2728800" y="5559840"/>
              <a:ext cx="849240" cy="166320"/>
            </a:xfrm>
            <a:prstGeom prst="pie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65"/>
            <p:cNvSpPr/>
            <p:nvPr/>
          </p:nvSpPr>
          <p:spPr>
            <a:xfrm>
              <a:off x="2577240" y="5768280"/>
              <a:ext cx="313920" cy="13140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66"/>
            <p:cNvSpPr/>
            <p:nvPr/>
          </p:nvSpPr>
          <p:spPr>
            <a:xfrm>
              <a:off x="2260080" y="5899680"/>
              <a:ext cx="3105720" cy="30852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3509280" y="5367240"/>
              <a:ext cx="1199880" cy="286200"/>
            </a:xfrm>
            <a:prstGeom prst="pie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3520800" y="5455080"/>
              <a:ext cx="1481400" cy="444600"/>
            </a:xfrm>
            <a:prstGeom prst="pie">
              <a:avLst/>
            </a:pr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69"/>
            <p:cNvSpPr/>
            <p:nvPr/>
          </p:nvSpPr>
          <p:spPr>
            <a:xfrm>
              <a:off x="3545640" y="5696640"/>
              <a:ext cx="860040" cy="19404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4756320" y="5821560"/>
              <a:ext cx="480240" cy="78120"/>
            </a:xfrm>
            <a:prstGeom prst="pie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71"/>
            <p:cNvSpPr/>
            <p:nvPr/>
          </p:nvSpPr>
          <p:spPr>
            <a:xfrm>
              <a:off x="4756320" y="5692680"/>
              <a:ext cx="204480" cy="12852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72"/>
            <p:cNvSpPr/>
            <p:nvPr/>
          </p:nvSpPr>
          <p:spPr>
            <a:xfrm>
              <a:off x="3953520" y="5717880"/>
              <a:ext cx="369720" cy="14544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73"/>
            <p:cNvSpPr/>
            <p:nvPr/>
          </p:nvSpPr>
          <p:spPr>
            <a:xfrm>
              <a:off x="4798080" y="5706720"/>
              <a:ext cx="123840" cy="11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3509280" y="5418720"/>
              <a:ext cx="1503720" cy="262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75"/>
            <p:cNvSpPr/>
            <p:nvPr/>
          </p:nvSpPr>
          <p:spPr>
            <a:xfrm>
              <a:off x="4058640" y="5726160"/>
              <a:ext cx="15984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76"/>
            <p:cNvSpPr/>
            <p:nvPr/>
          </p:nvSpPr>
          <p:spPr>
            <a:xfrm>
              <a:off x="3972960" y="5726160"/>
              <a:ext cx="6624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77"/>
            <p:cNvSpPr/>
            <p:nvPr/>
          </p:nvSpPr>
          <p:spPr>
            <a:xfrm>
              <a:off x="4240800" y="5726160"/>
              <a:ext cx="6300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78"/>
            <p:cNvSpPr/>
            <p:nvPr/>
          </p:nvSpPr>
          <p:spPr>
            <a:xfrm>
              <a:off x="4536000" y="5726160"/>
              <a:ext cx="10188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79"/>
            <p:cNvSpPr/>
            <p:nvPr/>
          </p:nvSpPr>
          <p:spPr>
            <a:xfrm>
              <a:off x="4469760" y="5726160"/>
              <a:ext cx="4680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80"/>
            <p:cNvSpPr/>
            <p:nvPr/>
          </p:nvSpPr>
          <p:spPr>
            <a:xfrm>
              <a:off x="4659840" y="5726160"/>
              <a:ext cx="46800" cy="1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4620960" y="5553000"/>
              <a:ext cx="74160" cy="2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4723560" y="5553000"/>
              <a:ext cx="76680" cy="2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4665600" y="5537520"/>
              <a:ext cx="88200" cy="3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4720680" y="5571000"/>
              <a:ext cx="479520" cy="12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85"/>
            <p:cNvSpPr/>
            <p:nvPr/>
          </p:nvSpPr>
          <p:spPr>
            <a:xfrm>
              <a:off x="5035320" y="5866200"/>
              <a:ext cx="190080" cy="2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86"/>
            <p:cNvSpPr/>
            <p:nvPr/>
          </p:nvSpPr>
          <p:spPr>
            <a:xfrm>
              <a:off x="4971600" y="5828400"/>
              <a:ext cx="190800" cy="2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4969080" y="5607360"/>
              <a:ext cx="220680" cy="84960"/>
            </a:xfrm>
            <a:prstGeom prst="pie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88"/>
            <p:cNvSpPr/>
            <p:nvPr/>
          </p:nvSpPr>
          <p:spPr>
            <a:xfrm>
              <a:off x="5139720" y="5692680"/>
              <a:ext cx="24840" cy="12852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未知"/>
            <p:cNvSpPr/>
            <p:nvPr/>
          </p:nvSpPr>
          <p:spPr>
            <a:xfrm>
              <a:off x="4770000" y="5571000"/>
              <a:ext cx="306360" cy="95040"/>
            </a:xfrm>
            <a:prstGeom prst="pie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90"/>
            <p:cNvSpPr/>
            <p:nvPr/>
          </p:nvSpPr>
          <p:spPr>
            <a:xfrm>
              <a:off x="4960800" y="5692680"/>
              <a:ext cx="41040" cy="12852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91"/>
            <p:cNvSpPr/>
            <p:nvPr/>
          </p:nvSpPr>
          <p:spPr>
            <a:xfrm>
              <a:off x="4756320" y="5692680"/>
              <a:ext cx="41760" cy="12852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1702800" y="5899680"/>
              <a:ext cx="1218960" cy="30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3244680" y="5758200"/>
              <a:ext cx="123840" cy="237600"/>
            </a:xfrm>
            <a:prstGeom prst="pie">
              <a:avLst/>
            </a:pr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3258720" y="5778000"/>
              <a:ext cx="71640" cy="6840"/>
            </a:xfrm>
            <a:prstGeom prst="pie">
              <a:avLst/>
            </a:pr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3258720" y="5808600"/>
              <a:ext cx="74160" cy="5400"/>
            </a:xfrm>
            <a:prstGeom prst="pie">
              <a:avLst/>
            </a:pr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3258720" y="5800320"/>
              <a:ext cx="74160" cy="3960"/>
            </a:xfrm>
            <a:prstGeom prst="pie">
              <a:avLst/>
            </a:pr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3258720" y="5842440"/>
              <a:ext cx="79920" cy="6840"/>
            </a:xfrm>
            <a:prstGeom prst="pie">
              <a:avLst/>
            </a:pr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3258720" y="5835240"/>
              <a:ext cx="79920" cy="3960"/>
            </a:xfrm>
            <a:prstGeom prst="pie">
              <a:avLst/>
            </a:pr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869400" y="5424120"/>
              <a:ext cx="838800" cy="620640"/>
            </a:xfrm>
            <a:prstGeom prst="pie">
              <a:avLst/>
            </a:pr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728640" y="5338800"/>
              <a:ext cx="1125360" cy="416520"/>
            </a:xfrm>
            <a:prstGeom prst="pie">
              <a:avLst/>
            </a:pr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未知"/>
            <p:cNvSpPr/>
            <p:nvPr/>
          </p:nvSpPr>
          <p:spPr>
            <a:xfrm>
              <a:off x="1600920" y="5866200"/>
              <a:ext cx="219960" cy="129960"/>
            </a:xfrm>
            <a:prstGeom prst="pie">
              <a:avLst/>
            </a:pr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未知"/>
            <p:cNvSpPr/>
            <p:nvPr/>
          </p:nvSpPr>
          <p:spPr>
            <a:xfrm>
              <a:off x="1231200" y="5916600"/>
              <a:ext cx="129240" cy="69480"/>
            </a:xfrm>
            <a:prstGeom prst="pie">
              <a:avLst/>
            </a:pr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2"/>
          <p:cNvSpPr/>
          <p:nvPr/>
        </p:nvSpPr>
        <p:spPr>
          <a:xfrm>
            <a:off x="1066680" y="3573360"/>
            <a:ext cx="14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爬悬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3"/>
          <p:cNvSpPr/>
          <p:nvPr/>
        </p:nvSpPr>
        <p:spPr>
          <a:xfrm>
            <a:off x="2179800" y="1971720"/>
            <a:ext cx="263520" cy="3786120"/>
          </a:xfrm>
          <a:custGeom>
            <a:avLst/>
            <a:gdLst>
              <a:gd name="textAreaLeft" fmla="*/ 168480 w 263520"/>
              <a:gd name="textAreaRight" fmla="*/ 263880 w 263520"/>
              <a:gd name="textAreaTop" fmla="*/ 98640 h 3786120"/>
              <a:gd name="textAreaBottom" fmla="*/ 3687480 h 37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4"/>
          <p:cNvSpPr/>
          <p:nvPr/>
        </p:nvSpPr>
        <p:spPr>
          <a:xfrm>
            <a:off x="2438280" y="1819440"/>
            <a:ext cx="16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毫无信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"/>
          <p:cNvSpPr/>
          <p:nvPr/>
        </p:nvSpPr>
        <p:spPr>
          <a:xfrm>
            <a:off x="2438280" y="3672000"/>
            <a:ext cx="16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萌发信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6"/>
          <p:cNvSpPr/>
          <p:nvPr/>
        </p:nvSpPr>
        <p:spPr>
          <a:xfrm>
            <a:off x="2514600" y="5400720"/>
            <a:ext cx="17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信心大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7"/>
          <p:cNvSpPr/>
          <p:nvPr/>
        </p:nvSpPr>
        <p:spPr>
          <a:xfrm>
            <a:off x="3821040" y="2049480"/>
            <a:ext cx="685800" cy="762120"/>
          </a:xfrm>
          <a:prstGeom prst="line">
            <a:avLst/>
          </a:prstGeom>
          <a:ln w="22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8"/>
          <p:cNvSpPr/>
          <p:nvPr/>
        </p:nvSpPr>
        <p:spPr>
          <a:xfrm flipH="1">
            <a:off x="3851280" y="3165480"/>
            <a:ext cx="792000" cy="719280"/>
          </a:xfrm>
          <a:prstGeom prst="line">
            <a:avLst/>
          </a:prstGeom>
          <a:ln w="22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9"/>
          <p:cNvSpPr/>
          <p:nvPr/>
        </p:nvSpPr>
        <p:spPr>
          <a:xfrm>
            <a:off x="4038480" y="2733840"/>
            <a:ext cx="18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走 一 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0"/>
          <p:cNvSpPr/>
          <p:nvPr/>
        </p:nvSpPr>
        <p:spPr>
          <a:xfrm>
            <a:off x="3851280" y="3957480"/>
            <a:ext cx="720720" cy="681120"/>
          </a:xfrm>
          <a:prstGeom prst="line">
            <a:avLst/>
          </a:prstGeom>
          <a:ln w="22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1"/>
          <p:cNvSpPr/>
          <p:nvPr/>
        </p:nvSpPr>
        <p:spPr>
          <a:xfrm flipH="1">
            <a:off x="3835080" y="5073480"/>
            <a:ext cx="716040" cy="662040"/>
          </a:xfrm>
          <a:prstGeom prst="line">
            <a:avLst/>
          </a:prstGeom>
          <a:ln w="22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2"/>
          <p:cNvSpPr/>
          <p:nvPr/>
        </p:nvSpPr>
        <p:spPr>
          <a:xfrm>
            <a:off x="4114800" y="4638600"/>
            <a:ext cx="168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再走一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3"/>
          <p:cNvSpPr/>
          <p:nvPr/>
        </p:nvSpPr>
        <p:spPr>
          <a:xfrm>
            <a:off x="5638680" y="3724200"/>
            <a:ext cx="12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启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4"/>
          <p:cNvSpPr/>
          <p:nvPr/>
        </p:nvSpPr>
        <p:spPr>
          <a:xfrm>
            <a:off x="3897360" y="1819440"/>
            <a:ext cx="9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冒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5"/>
          <p:cNvSpPr/>
          <p:nvPr/>
        </p:nvSpPr>
        <p:spPr>
          <a:xfrm>
            <a:off x="5029200" y="3191040"/>
            <a:ext cx="685800" cy="761760"/>
          </a:xfrm>
          <a:prstGeom prst="line">
            <a:avLst/>
          </a:prstGeom>
          <a:ln w="22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6"/>
          <p:cNvSpPr/>
          <p:nvPr/>
        </p:nvSpPr>
        <p:spPr>
          <a:xfrm flipV="1">
            <a:off x="4952880" y="4028760"/>
            <a:ext cx="762120" cy="685800"/>
          </a:xfrm>
          <a:prstGeom prst="line">
            <a:avLst/>
          </a:prstGeom>
          <a:ln w="22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7"/>
          <p:cNvSpPr/>
          <p:nvPr/>
        </p:nvSpPr>
        <p:spPr>
          <a:xfrm>
            <a:off x="3962520" y="5400720"/>
            <a:ext cx="9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脱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8"/>
          <p:cNvSpPr/>
          <p:nvPr/>
        </p:nvSpPr>
        <p:spPr>
          <a:xfrm>
            <a:off x="4524480" y="18255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恐惧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9"/>
          <p:cNvSpPr/>
          <p:nvPr/>
        </p:nvSpPr>
        <p:spPr>
          <a:xfrm>
            <a:off x="4500720" y="53974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有成就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20"/>
          <p:cNvSpPr/>
          <p:nvPr/>
        </p:nvSpPr>
        <p:spPr>
          <a:xfrm>
            <a:off x="6372360" y="37418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化整为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21" descr="052633"/>
          <p:cNvPicPr/>
          <p:nvPr/>
        </p:nvPicPr>
        <p:blipFill>
          <a:blip r:embed="rId1"/>
          <a:stretch/>
        </p:blipFill>
        <p:spPr>
          <a:xfrm>
            <a:off x="7308720" y="1566720"/>
            <a:ext cx="1216080" cy="138924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22" descr="图片8"/>
          <p:cNvPicPr/>
          <p:nvPr/>
        </p:nvPicPr>
        <p:blipFill>
          <a:blip r:embed="rId2"/>
          <a:stretch/>
        </p:blipFill>
        <p:spPr>
          <a:xfrm>
            <a:off x="3556080" y="814320"/>
            <a:ext cx="2033640" cy="61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5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8"/>
          <p:cNvSpPr/>
          <p:nvPr/>
        </p:nvSpPr>
        <p:spPr>
          <a:xfrm>
            <a:off x="981000" y="2482920"/>
            <a:ext cx="7386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华文行楷"/>
                <a:ea typeface="华文行楷"/>
              </a:rPr>
              <a:t>最可怕的敌人，就是没有坚强的信念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                    </a:t>
            </a:r>
            <a:r>
              <a:rPr b="0" lang="en-US" sz="3000" spc="-1" strike="noStrike">
                <a:solidFill>
                  <a:srgbClr val="0000ff"/>
                </a:solidFill>
                <a:latin typeface="黑体"/>
                <a:ea typeface="华文行楷"/>
              </a:rPr>
              <a:t>——</a:t>
            </a:r>
            <a:r>
              <a:rPr b="0" lang="zh-CN" sz="3000" spc="-1" strike="noStrike">
                <a:solidFill>
                  <a:srgbClr val="0000ff"/>
                </a:solidFill>
                <a:latin typeface="华文行楷"/>
                <a:ea typeface="华文行楷"/>
              </a:rPr>
              <a:t>罗曼</a:t>
            </a:r>
            <a:r>
              <a:rPr b="0" lang="en-US" sz="3000" spc="-1" strike="noStrike">
                <a:solidFill>
                  <a:srgbClr val="0000ff"/>
                </a:solidFill>
                <a:latin typeface="黑体"/>
                <a:ea typeface="华文行楷"/>
              </a:rPr>
              <a:t>·</a:t>
            </a:r>
            <a:r>
              <a:rPr b="0" lang="zh-CN" sz="3000" spc="-1" strike="noStrike">
                <a:solidFill>
                  <a:srgbClr val="0000ff"/>
                </a:solidFill>
                <a:latin typeface="华文行楷"/>
                <a:ea typeface="华文行楷"/>
              </a:rPr>
              <a:t>罗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62960" y="5850000"/>
            <a:ext cx="1358640" cy="9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493560" y="2673000"/>
            <a:ext cx="84600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．概括文中的主要事件，把握记叙文的六要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．感受文中的心理描写和语言描写，体会“我”的心理变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．理解“走一步，再走一步”的含义，从而获得人生启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20081117225726819"/>
          <p:cNvPicPr/>
          <p:nvPr/>
        </p:nvPicPr>
        <p:blipFill>
          <a:blip r:embed="rId1"/>
          <a:stretch/>
        </p:blipFill>
        <p:spPr>
          <a:xfrm>
            <a:off x="720720" y="5821200"/>
            <a:ext cx="7620120" cy="358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图片5"/>
          <p:cNvPicPr/>
          <p:nvPr/>
        </p:nvPicPr>
        <p:blipFill>
          <a:blip r:embed="rId2"/>
          <a:srcRect l="0" t="52381" r="0" b="0"/>
          <a:stretch/>
        </p:blipFill>
        <p:spPr>
          <a:xfrm>
            <a:off x="7939080" y="695160"/>
            <a:ext cx="990720" cy="635040"/>
          </a:xfrm>
          <a:prstGeom prst="rect">
            <a:avLst/>
          </a:prstGeom>
          <a:ln w="0">
            <a:noFill/>
          </a:ln>
        </p:spPr>
      </p:pic>
      <p:pic>
        <p:nvPicPr>
          <p:cNvPr id="132" name="矩形 9" descr=""/>
          <p:cNvPicPr/>
          <p:nvPr/>
        </p:nvPicPr>
        <p:blipFill>
          <a:blip r:embed="rId3"/>
          <a:srcRect l="9627" t="0" r="7822" b="25953"/>
          <a:stretch/>
        </p:blipFill>
        <p:spPr>
          <a:xfrm>
            <a:off x="2995560" y="960480"/>
            <a:ext cx="2776680" cy="80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665280" y="3431520"/>
            <a:ext cx="78105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900cc"/>
                </a:solidFill>
                <a:latin typeface="Arial"/>
              </a:rPr>
              <a:t>         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莫顿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亨特，美国作家。早年曾在空军服役，做过空军飞行员。在二战时期，他曾驾机执行过对德国的侦察任务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莫顿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亨特是一位擅长写励志类文章的作家，他的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走一步，再走一步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被美国作家芭芭拉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琳达编撰的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假如我们原谅上帝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收录。此外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心灵鸡汤 充满阳光的成长历程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这本收录激励心志的成长故事的书中也收录了他的相关作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469"/>
          <p:cNvPicPr/>
          <p:nvPr/>
        </p:nvPicPr>
        <p:blipFill>
          <a:blip r:embed="rId1"/>
          <a:stretch/>
        </p:blipFill>
        <p:spPr>
          <a:xfrm>
            <a:off x="7224840" y="917640"/>
            <a:ext cx="1272960" cy="782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2"/>
          <a:srcRect l="9038" t="2648" r="8006" b="20657"/>
          <a:stretch/>
        </p:blipFill>
        <p:spPr>
          <a:xfrm>
            <a:off x="3173400" y="507960"/>
            <a:ext cx="2692440" cy="808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图片1"/>
          <p:cNvPicPr/>
          <p:nvPr/>
        </p:nvPicPr>
        <p:blipFill>
          <a:blip r:embed="rId3"/>
          <a:stretch/>
        </p:blipFill>
        <p:spPr>
          <a:xfrm>
            <a:off x="3625920" y="1503360"/>
            <a:ext cx="2036520" cy="61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028880" y="2001960"/>
            <a:ext cx="7889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训</a:t>
            </a:r>
            <a:r>
              <a:rPr b="1" lang="zh-CN" sz="2400" spc="-1" strike="noStrike" u="sng">
                <a:solidFill>
                  <a:srgbClr val="cc00ff"/>
                </a:solidFill>
                <a:uFillTx/>
                <a:latin typeface="宋体"/>
              </a:rPr>
              <a:t>诫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     ）  陡</a:t>
            </a:r>
            <a:r>
              <a:rPr b="1" lang="zh-CN" sz="2400" spc="-1" strike="noStrike" u="sng">
                <a:solidFill>
                  <a:srgbClr val="cc00ff"/>
                </a:solidFill>
                <a:uFillTx/>
                <a:latin typeface="宋体"/>
              </a:rPr>
              <a:t>峭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      ）   </a:t>
            </a:r>
            <a:r>
              <a:rPr b="1" lang="zh-CN" sz="2400" spc="-1" strike="noStrike" u="sng">
                <a:solidFill>
                  <a:srgbClr val="cc00ff"/>
                </a:solidFill>
                <a:uFillTx/>
                <a:latin typeface="宋体"/>
              </a:rPr>
              <a:t>嶙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cc00ff"/>
                </a:solidFill>
                <a:uFillTx/>
                <a:latin typeface="宋体"/>
              </a:rPr>
              <a:t>啜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泣（   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)   </a:t>
            </a:r>
            <a:r>
              <a:rPr b="1" lang="zh-CN" sz="2400" spc="-1" strike="noStrike" u="sng">
                <a:solidFill>
                  <a:srgbClr val="cc00ff"/>
                </a:solidFill>
                <a:uFillTx/>
                <a:latin typeface="宋体"/>
              </a:rPr>
              <a:t>纳罕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      ）   </a:t>
            </a:r>
            <a:r>
              <a:rPr b="1" lang="zh-CN" sz="2400" spc="-1" strike="noStrike" u="sng">
                <a:solidFill>
                  <a:srgbClr val="cc00ff"/>
                </a:solidFill>
                <a:uFillTx/>
                <a:latin typeface="宋体"/>
              </a:rPr>
              <a:t>迂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回（     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寒</a:t>
            </a:r>
            <a:r>
              <a:rPr b="1" lang="zh-CN" sz="2400" spc="-1" strike="noStrike" u="sng">
                <a:solidFill>
                  <a:srgbClr val="cc00ff"/>
                </a:solidFill>
                <a:uFillTx/>
                <a:latin typeface="宋体"/>
              </a:rPr>
              <a:t>颤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     ）  </a:t>
            </a:r>
            <a:r>
              <a:rPr b="1" lang="zh-CN" sz="2400" spc="-1" strike="noStrike" u="sng">
                <a:solidFill>
                  <a:srgbClr val="cc00ff"/>
                </a:solidFill>
                <a:uFillTx/>
                <a:latin typeface="宋体"/>
              </a:rPr>
              <a:t>屡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次（      ）   </a:t>
            </a:r>
            <a:r>
              <a:rPr b="1" lang="zh-CN" sz="2400" spc="-1" strike="noStrike" u="sng">
                <a:solidFill>
                  <a:srgbClr val="cc00ff"/>
                </a:solidFill>
                <a:uFillTx/>
                <a:latin typeface="宋体"/>
              </a:rPr>
              <a:t>凸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出（     ）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cc00ff"/>
                </a:solidFill>
                <a:uFillTx/>
                <a:latin typeface="宋体"/>
              </a:rPr>
              <a:t>着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眼（     ）  头晕目</a:t>
            </a:r>
            <a:r>
              <a:rPr b="1" lang="zh-CN" sz="2400" spc="-1" strike="noStrike" u="sng">
                <a:solidFill>
                  <a:srgbClr val="cc00ff"/>
                </a:solidFill>
                <a:uFillTx/>
                <a:latin typeface="宋体"/>
              </a:rPr>
              <a:t>眩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     ）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65040" y="325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994040" y="2246400"/>
            <a:ext cx="10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ji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7067520" y="285264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y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1973160" y="2832120"/>
            <a:ext cx="15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chu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4251240" y="2840040"/>
            <a:ext cx="18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nà hǎ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4386240" y="2235240"/>
            <a:ext cx="19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qià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6811920" y="2227320"/>
            <a:ext cx="20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lín xú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1995480" y="350028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zh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4533840" y="3511440"/>
            <a:ext cx="10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l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7021440" y="3468600"/>
            <a:ext cx="11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t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1986120" y="4140360"/>
            <a:ext cx="20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zhu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4919760" y="4140360"/>
            <a:ext cx="17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xu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20047271121061117"/>
          <p:cNvPicPr/>
          <p:nvPr/>
        </p:nvPicPr>
        <p:blipFill>
          <a:blip r:embed="rId1"/>
          <a:stretch/>
        </p:blipFill>
        <p:spPr>
          <a:xfrm>
            <a:off x="752400" y="5591160"/>
            <a:ext cx="7467840" cy="600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6" descr="图片3"/>
          <p:cNvPicPr/>
          <p:nvPr/>
        </p:nvPicPr>
        <p:blipFill>
          <a:blip r:embed="rId2"/>
          <a:stretch/>
        </p:blipFill>
        <p:spPr>
          <a:xfrm>
            <a:off x="3649680" y="1143000"/>
            <a:ext cx="2033640" cy="61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03b7e00a55f00b8e950cd8b"/>
          <p:cNvPicPr/>
          <p:nvPr/>
        </p:nvPicPr>
        <p:blipFill>
          <a:blip r:embed="rId1"/>
          <a:srcRect l="0" t="0" r="302" b="1834"/>
          <a:stretch/>
        </p:blipFill>
        <p:spPr>
          <a:xfrm>
            <a:off x="639720" y="716040"/>
            <a:ext cx="7885080" cy="5094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点击画面播放"/>
          <p:cNvPicPr/>
          <p:nvPr/>
        </p:nvPicPr>
        <p:blipFill>
          <a:blip r:embed="rId2"/>
          <a:stretch/>
        </p:blipFill>
        <p:spPr>
          <a:xfrm>
            <a:off x="2917800" y="5978520"/>
            <a:ext cx="3540240" cy="60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06520" y="2080800"/>
            <a:ext cx="64612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这篇文章讲了一个什么故事？</a:t>
            </a:r>
            <a:r>
              <a:rPr b="0" lang="zh-CN" sz="2800" spc="-1" strike="noStrike">
                <a:solidFill>
                  <a:srgbClr val="cc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406520" y="3002760"/>
            <a:ext cx="61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本文的记叙六要素分别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1406520" y="3713040"/>
            <a:ext cx="53863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宋体"/>
                <a:ea typeface="幼圆"/>
              </a:rPr>
              <a:t>3.</a:t>
            </a:r>
            <a:r>
              <a:rPr b="0" lang="zh-CN" sz="2800" spc="-1" strike="noStrike">
                <a:solidFill>
                  <a:srgbClr val="0000ff"/>
                </a:solidFill>
                <a:latin typeface="Tempus Sans ITC"/>
                <a:ea typeface="幼圆"/>
              </a:rPr>
              <a:t>理清文章的思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406520" y="4575240"/>
            <a:ext cx="6450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宋体"/>
                <a:ea typeface="幼圆"/>
              </a:rPr>
              <a:t>4.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  <a:ea typeface="幼圆"/>
              </a:rPr>
              <a:t>我们从中悟出怎样的生活哲理？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  <a:ea typeface="幼圆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6_1105584051"/>
          <p:cNvPicPr/>
          <p:nvPr/>
        </p:nvPicPr>
        <p:blipFill>
          <a:blip r:embed="rId1"/>
          <a:srcRect l="81964" t="0" r="0" b="818"/>
          <a:stretch/>
        </p:blipFill>
        <p:spPr>
          <a:xfrm>
            <a:off x="7758000" y="625320"/>
            <a:ext cx="790560" cy="2895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图片4"/>
          <p:cNvPicPr/>
          <p:nvPr/>
        </p:nvPicPr>
        <p:blipFill>
          <a:blip r:embed="rId2"/>
          <a:stretch/>
        </p:blipFill>
        <p:spPr>
          <a:xfrm>
            <a:off x="3532320" y="1154160"/>
            <a:ext cx="2033280" cy="61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3680" y="1989000"/>
            <a:ext cx="8229600" cy="7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ff"/>
                </a:solidFill>
                <a:latin typeface="Calibri"/>
              </a:rPr>
              <a:t>这篇文章讲了一个什么故事？</a:t>
            </a:r>
            <a:r>
              <a:rPr b="0" lang="zh-CN" sz="2800" spc="-1" strike="noStrike">
                <a:solidFill>
                  <a:srgbClr val="cc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3320" y="2517480"/>
            <a:ext cx="8235720" cy="21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</a:rPr>
              <a:t>     </a:t>
            </a:r>
            <a:r>
              <a:rPr b="1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7</a:t>
            </a:r>
            <a:r>
              <a:rPr b="1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年前，费城的一个七月，因为天气闷热，玩腻了，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与伙伴爬悬崖，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被困在悬崖中，最后在父亲的指引下，顺利走下悬崖的故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4" descr="gbbar"/>
          <p:cNvPicPr/>
          <p:nvPr/>
        </p:nvPicPr>
        <p:blipFill>
          <a:blip r:embed="rId1"/>
          <a:stretch/>
        </p:blipFill>
        <p:spPr>
          <a:xfrm>
            <a:off x="579600" y="666720"/>
            <a:ext cx="7994520" cy="652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04"/>
          <p:cNvPicPr/>
          <p:nvPr/>
        </p:nvPicPr>
        <p:blipFill>
          <a:blip r:embed="rId2"/>
          <a:stretch/>
        </p:blipFill>
        <p:spPr>
          <a:xfrm>
            <a:off x="647640" y="5824440"/>
            <a:ext cx="782820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609480" y="2197080"/>
            <a:ext cx="13716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时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地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人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起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经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结果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603440" y="2197080"/>
            <a:ext cx="4724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七月里一个闷热的日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1603440" y="2833560"/>
            <a:ext cx="1295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费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1603440" y="3483000"/>
            <a:ext cx="4724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男孩，父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1603440" y="4768920"/>
            <a:ext cx="2249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悬崖遇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1603440" y="4132440"/>
            <a:ext cx="8321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天气闷热 玩弹子游戏玩厌了  找新花样来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1603440" y="5418000"/>
            <a:ext cx="52322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走一步，再走一步    脱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9" descr="469"/>
          <p:cNvPicPr/>
          <p:nvPr/>
        </p:nvPicPr>
        <p:blipFill>
          <a:blip r:embed="rId1"/>
          <a:stretch/>
        </p:blipFill>
        <p:spPr>
          <a:xfrm>
            <a:off x="6797520" y="5132520"/>
            <a:ext cx="1273320" cy="78264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0"/>
          <p:cNvSpPr/>
          <p:nvPr/>
        </p:nvSpPr>
        <p:spPr>
          <a:xfrm>
            <a:off x="630360" y="1586880"/>
            <a:ext cx="618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本文的记叙六要素分别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1" descr="gbbar"/>
          <p:cNvPicPr/>
          <p:nvPr/>
        </p:nvPicPr>
        <p:blipFill>
          <a:blip r:embed="rId2"/>
          <a:stretch/>
        </p:blipFill>
        <p:spPr>
          <a:xfrm>
            <a:off x="579600" y="612720"/>
            <a:ext cx="799452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2T02:43:23Z</dcterms:created>
  <dc:creator>Administrator</dc:creator>
  <dc:description/>
  <cp:keywords/>
  <dc:language>en-US</dc:language>
  <cp:lastModifiedBy>Administrator</cp:lastModifiedBy>
  <cp:lastPrinted>1899-12-30T00:00:00Z</cp:lastPrinted>
  <dcterms:modified xsi:type="dcterms:W3CDTF">2014-12-25T07:17:45Z</dcterms:modified>
  <cp:revision>1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